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059-83E5-4C9C-8B8D-E4273D1C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FA9-FE58-463F-8C96-55A134B7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E61-35F3-43B0-9DA9-EB0EBA8B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A7E-0A2A-457B-AA8C-A10A2774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F025-E9EA-43C1-977C-9EC4FF72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16BC-E59B-4B9D-A4B4-D31A1261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E89B-C3C4-4061-985B-7BDCDC9F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A5DF-6D0B-494E-B62C-CCFFDC0F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5BDC-02B8-42C3-8E36-E12D533B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E482-64F9-484D-8C48-B40ADC64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B5E0-5808-43CE-9659-A0D7E512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AC4-537C-47BB-B734-847370CF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DFE0-BC73-45BD-8782-25F14AAB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15AF-35FE-4CAF-A668-2A6B9984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3E69-9651-4CFD-B522-A64BD147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A9B5-9D87-4595-ADB7-CF38E126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7B3C-7417-4056-9B0F-E9C3D03B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0F6-6CC3-4683-A636-03E3259F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4A5-E0F7-4CB6-9D3B-94F84A6D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5E8-B23F-4E34-BF6A-BA5B8F90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954C-3C26-4447-9403-F70DDAC8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3CF-6BF4-4722-8898-41B9C480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1DB-199C-48C1-998D-715FD66F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499-DF89-40E8-9F70-4745A6D2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E3F153-B146-4BF7-AC09-A9FEDBD918C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39A37-E46F-4BED-855D-75FCD45ED0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1523880"/>
            <a:ext cx="71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, Mutual Marketing and a Common Approa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22780" t="16889" r="23890" b="27999"/>
          <a:stretch/>
        </p:blipFill>
        <p:spPr>
          <a:xfrm>
            <a:off x="990720" y="914400"/>
            <a:ext cx="731520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6920" y="380880"/>
            <a:ext cx="78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workingincanada.gc.ca/welcome.do?template=ontario&amp;lang=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6669" t="17779" r="40557" b="10220"/>
          <a:stretch/>
        </p:blipFill>
        <p:spPr>
          <a:xfrm>
            <a:off x="0" y="685800"/>
            <a:ext cx="5867280" cy="6172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9443" t="31111" r="58890" b="14667"/>
          <a:stretch/>
        </p:blipFill>
        <p:spPr>
          <a:xfrm>
            <a:off x="5791320" y="1981080"/>
            <a:ext cx="2971800" cy="464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71137" b="2444"/>
          <a:stretch/>
        </p:blipFill>
        <p:spPr>
          <a:xfrm>
            <a:off x="6248520" y="129528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V="1">
            <a:off x="1752480" y="2513160"/>
            <a:ext cx="4114800" cy="244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33720" y="5103720"/>
            <a:ext cx="3809880" cy="11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52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2780" t="0" r="23334" b="5778"/>
          <a:stretch/>
        </p:blipFill>
        <p:spPr>
          <a:xfrm>
            <a:off x="1447920" y="0"/>
            <a:ext cx="627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1667" t="17779" r="23890" b="4447"/>
          <a:stretch/>
        </p:blipFill>
        <p:spPr>
          <a:xfrm>
            <a:off x="685800" y="38160"/>
            <a:ext cx="7467480" cy="66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1667" t="14988" r="22780" b="5387"/>
          <a:stretch/>
        </p:blipFill>
        <p:spPr>
          <a:xfrm>
            <a:off x="609480" y="228600"/>
            <a:ext cx="76201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4:56:00Z</dcterms:created>
  <dc:creator>alejandra bravo</dc:creator>
  <dc:description/>
  <dc:language>en-US</dc:language>
  <cp:lastModifiedBy>marco</cp:lastModifiedBy>
  <dcterms:modified xsi:type="dcterms:W3CDTF">2010-11-02T13:26:43Z</dcterms:modified>
  <cp:revision>80</cp:revision>
  <dc:subject/>
  <dc:title>Slide 1</dc:title>
</cp:coreProperties>
</file>